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730-8A86-4B64-ACD6-4C0E26CD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6AC-5544-47C1-AD4E-7038AA98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2EF-C502-4C13-81BF-56FCCA0F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E09-182E-4B18-9D7C-E042357A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F8F0-5682-41DC-B7BF-D7AFAB64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E3A8-6AA2-43EB-9AAB-D7E08643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DDF-8093-420C-82B5-B64D4460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DC28-9557-4CE6-84B7-EC8D7600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8792-664F-484E-8BDC-7B876E72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2E21-8692-4779-AEC7-7D7B780F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C1A9-A2EB-4237-A5F4-B3E56843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782-2A67-4FBB-BA73-5E9642B0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41E4-4E14-4B1B-A14E-69D8F9C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473E-32CA-4999-9399-EDB37F31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AC77-6BD9-4DDE-A898-E0A512A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4652-DFB8-45B1-95C2-75C3D816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CCCD-9EF1-4B7D-87EA-F95686F3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E24-8B07-4E49-9116-4C7B49E5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2BF-46C1-4307-AEC5-8C35E651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CD3-259B-4C40-9F83-364CCDC8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EDA-12A3-4DEF-ADAB-E22C9C25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525-2FE8-4B07-8901-5593040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141-62E4-4324-A109-88D9445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A52-8C08-43D1-BAA7-316EE2C5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A285-A7B0-473D-8E70-48A0AA48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C331-FD89-425E-A727-D7DF5E07D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12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Metodología CreditMetrics</a:t>
            </a:r>
            <a:r>
              <a:rPr b="0" lang="en-US" sz="5400" spc="-1" strike="noStrike">
                <a:solidFill>
                  <a:srgbClr val="003366"/>
                </a:solidFill>
                <a:latin typeface="Symbol"/>
                <a:ea typeface="Symbol"/>
              </a:rPr>
              <a:t>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nuevo marco para la medición del riesgo de crédito (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istribución de ls valores del bon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Chart1-2" descr=""/>
          <p:cNvPicPr/>
          <p:nvPr/>
        </p:nvPicPr>
        <p:blipFill>
          <a:blip r:embed="rId1"/>
          <a:stretch/>
        </p:blipFill>
        <p:spPr>
          <a:xfrm>
            <a:off x="1295280" y="1557360"/>
            <a:ext cx="73915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Cálculo de la volatilidad y VaR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Table2-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84872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álculo del riesgo crediticio de un portfolio de ac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22860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gamos un nuevo bono a 3 años, cupón annual de 5, y calidad crediticia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Table1-4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49528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Cálculo de las probabilidades conjuntas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incorporamos nuevo bono, cupon 5, calidad crediticia A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Table3-1" descr=""/>
          <p:cNvPicPr/>
          <p:nvPr/>
        </p:nvPicPr>
        <p:blipFill>
          <a:blip r:embed="rId1"/>
          <a:stretch/>
        </p:blipFill>
        <p:spPr>
          <a:xfrm>
            <a:off x="1066680" y="1925640"/>
            <a:ext cx="8077320" cy="3462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57913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obabilidad conjunta de que ambos bonos mantengan el rating es:        79.15% = 86.93% * 91.0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Valor del portfolio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pite el procedimiento anterior, pero todo el ejercicio es poco realista, al asumir correlación n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Table1-5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70536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posición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odología no se limita a bonos…   el único límite esta dado por la existencia por datos para reevaluar la exposición en caso de un up(down) grade o defa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Tipos genericos de exposiciones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entas a cobrar (no pagan intere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y prést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s de crédito compromet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ras financiera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s, forwar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Cuentas a cobrar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emos tratarlos como un ZCB que vence con igual fecha a la cuenta a cobr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vence antes del horizonte de riesgo, no necesitamos revaluar en categorías, solo tenemos 2 estados, repago o default (usamos una tasa de recupero dada por la indust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Bonos y préstamos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mente, tratamos a los préstamos en forma similar a los bo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mos una curva forward para préstamos, y aplicamos la tasa de recupero de préstamos dada por la indust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Lineas de crédito comprometidas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 de 2 componentes: uno es el monto ya entregado, y el tramo que resta por entregar. Se paga un interés por la parte prestada y un fee por la otra comprometida (AAA=3bp, AA=4bp, …. , B=40bp, C=120b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arte prestada se valua como si se tratase de un préstamo comú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unto delicados es como revaluar la linea comprometida restan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riterio más simple es revaluar bajo la hipótesis que todo el dinero fue entre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ndam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47920"/>
            <a:ext cx="7665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ramienta para medir riesgo de portfolio en el valor de la deuda debido a cambios en la calidad crediticia del deu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onsideran eventos de default, pero también cambios en la calidad credit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stima las pérdidas esperadas y el V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o de portfolio: se considera la correlación entre la calidad crediticia de los deudores, lo cual nos permite tratar el riesgo de concentración de cart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Letras financieras de crédito</a:t>
            </a:r>
            <a:br>
              <a:rPr sz="3800"/>
            </a:b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opción de tener acceso a una línea de crédito, incluso en el caso de que la calidad crediticia del beneficiario sufra un deterio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xposición es similar a un préstamo directo (si uno cree que las cosas pueden ir mal,hay una alta probabilidad de que esto suced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Times New Roman"/>
              </a:rPr>
              <a:t>Swaps, forwards, etc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referiremos a estos instrumentos como “market-drive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opcionalidad inherente surge del hecho que solo tenemos exposición a la contraparte en caso de “ default” solo si el instrumento esta “in the mone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ecesita un modelo integrado de riesgo de crédito y de merc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ras razones práctica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os financieros más comp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iferación de mecanismos de mitigación de riesgo crediticio (garantías recíprocas, collateral, margen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r liquidez en mercados secundarios y la existencia de derivados credit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os de crédito que derivan su valor de la correlación entre activos,  o de eventos de crédito, como defaults, upgrad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78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as en la estimación de R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retornos crediticios son fuertemente asimétricos y de colas grue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os datos para modelar la corre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hart1-1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5486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l marco analítico de CreditMetric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Chart4-1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80773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álculo del VaR crediticio para un solo activ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3276720"/>
            <a:ext cx="7315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gimos un bono a 5 años, cupón annual de 6, y calidad crediticia BBB a modo de ejemp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babilidad de migración creditici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Chart2-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848720" cy="1998720"/>
          </a:xfrm>
          <a:prstGeom prst="rect">
            <a:avLst/>
          </a:prstGeom>
          <a:ln w="0">
            <a:noFill/>
          </a:ln>
        </p:spPr>
      </p:pic>
      <p:pic>
        <p:nvPicPr>
          <p:cNvPr id="143" name="Table2-1" descr=""/>
          <p:cNvPicPr/>
          <p:nvPr/>
        </p:nvPicPr>
        <p:blipFill>
          <a:blip r:embed="rId2"/>
          <a:stretch/>
        </p:blipFill>
        <p:spPr>
          <a:xfrm flipH="1">
            <a:off x="1371600" y="3505320"/>
            <a:ext cx="7238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sa de recupero en estado de defaul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Table2-2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772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valuación del VAN del activo </a:t>
            </a:r>
            <a:br>
              <a:rPr sz="4000"/>
            </a:b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(bono BBB experimenta un upgrade a A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Table2-3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4267440" cy="2292480"/>
          </a:xfrm>
          <a:prstGeom prst="rect">
            <a:avLst/>
          </a:prstGeom>
          <a:ln w="0">
            <a:noFill/>
          </a:ln>
        </p:spPr>
      </p:pic>
      <p:pic>
        <p:nvPicPr>
          <p:cNvPr id="148" name="Table2-4" descr=""/>
          <p:cNvPicPr/>
          <p:nvPr/>
        </p:nvPicPr>
        <p:blipFill>
          <a:blip r:embed="rId2"/>
          <a:stretch/>
        </p:blipFill>
        <p:spPr>
          <a:xfrm>
            <a:off x="6095880" y="17524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49" name="form2-1" descr=""/>
          <p:cNvPicPr/>
          <p:nvPr/>
        </p:nvPicPr>
        <p:blipFill>
          <a:blip r:embed="rId3"/>
          <a:stretch/>
        </p:blipFill>
        <p:spPr>
          <a:xfrm>
            <a:off x="1447920" y="4876920"/>
            <a:ext cx="73152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01:22:01Z</dcterms:created>
  <dc:creator>Miguel Tomas Delfiner</dc:creator>
  <dc:description/>
  <dc:language>en-US</dc:language>
  <cp:lastModifiedBy>Miguel Tomas Delfiner</cp:lastModifiedBy>
  <dcterms:modified xsi:type="dcterms:W3CDTF">2001-05-29T01:52:05Z</dcterms:modified>
  <cp:revision>6</cp:revision>
  <dc:subject/>
  <dc:title>Metodología CreditMetrics</dc:title>
</cp:coreProperties>
</file>